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1A7-18E0-427A-B070-DA443C5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451-17CB-4849-B183-3C40A80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25397-A435-4A48-A61A-14819351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D2FBE-4055-4E03-9111-92B4A0B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A1A6-0792-4E8D-BD5D-8C6E2E16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7752E-DE2E-4DF3-802F-573571A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A111B-A9D0-44CB-B75B-8F8177C6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DDA24-3C55-4FD0-8D71-BEE91A42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64584-3051-4B75-9B91-B734FEBA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B272-12A2-490A-8B2E-1F7EC56D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081B8-6C52-434B-9463-90F83A66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2936-FB7E-4917-BFB6-81455553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E93-A7F5-472C-B04C-BE9EFBED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E5A3B-201A-472C-8D3B-7256152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5708-C3A4-44BB-BA2D-2756B01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E1702-FB6E-4DC6-AB20-7E99F3F9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F550C-2DB7-4C03-A0A6-00901CC7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9F879-22B5-4B6A-BCFB-3F2FC6D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E85B9-8E61-48CC-9015-F41A7A7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5F3B9-BF8D-4CA2-AAB9-D53525B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0924F-B28D-4ADB-B689-9FE284A2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0B1D1-6007-4B7F-B904-73C8812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B5D59-4247-45C9-B3DA-AE4E71F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BDA-3F1E-4634-9BD0-325C0A41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DA17-0FB2-48BC-8705-861F1BE3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395D-7C6B-4457-BDAE-0641A88B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00880-85AF-461D-8531-44928A52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654D9-4F8B-46FD-B875-1FCCF20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CA40-B2AF-4E33-A70A-309B484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D8AE6-1042-4338-B067-EBB40C30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002B7-CD04-489E-A357-D197B2EF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89FDD-4332-4D67-A4E8-3B88532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3DF9-AF6B-4E57-A4A0-CA6C86E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87FEF-3E0F-4E92-A387-B91D4ED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063E-09CE-48B1-AC99-3868308A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C69DD-FEC4-4E44-AA28-F92162BD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D9D9C-CF2C-4FA6-8028-A414393D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13679-34B8-4D54-B11D-647AAD96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FC4C6-3920-45A3-B758-A74BC69C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03BD6-6EBD-4880-9EA3-03CB19B2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7366B-1DA5-444A-8385-CBB1AEB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2F8BD-BE94-4E08-8D5B-10DDFB4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C65DC-CBAB-485C-A384-1B7A958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84C41-40ED-46AB-BD5F-222045E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F6A4C-A575-4D95-8D95-4C9D901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53A-2946-4E4A-8975-72A8EEEC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A0DFB-99CD-4E2E-BE11-C719265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1AA9-DFD3-4845-B17B-7C7472AD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B889E-72EE-49EF-8DC6-A072AF2A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B9F95-8CDC-4084-90A1-033730E4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0EA8-281F-4699-8D9E-37DF8BF0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36C7F-00E8-49B1-BC4D-E27CE143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33C54-6952-40B0-8281-854DE438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EA45F-15C8-4C4F-B1B6-F1A78EB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9077E-1913-4BB6-9E3F-82F0E04A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45FA9-1E11-411D-9C13-F4C6E05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15C-E43A-4CCE-9E87-733ED92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4938-EA2B-4E87-97B3-ABEC88A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69435-3E6A-4849-A190-FA6E88B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99E85-2258-4E40-BA41-C037057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D1204-68F0-46C6-B8AF-644EE0D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E9D7A-77B8-4554-8632-636DDBEB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6AC1C-52DB-47D0-9A28-F9D3E7F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E3B08-E278-45CB-B319-D211B2D9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FE6B7-CFCA-4216-A683-59A1F559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89089-1F44-4907-9F98-C571BF2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A451D-1335-4C07-A5CC-159EDD8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DB8-4E91-4302-9907-1EAB2786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DA10F-2159-4372-9D81-87BF458D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AC100-1F73-4B78-A3FC-D9EC9ED8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0CED0-848C-466B-9731-5609C005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DB2FF-2C2A-4834-AFFE-DD58A84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CA9A8-4FE4-4DA8-BA97-0491F3F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09A8A-9071-4DD6-B622-9FBE6F4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CF2D7-B7C6-4DF5-8825-9EFDCB11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34FD5-05A0-4918-8786-B2284703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8D608-4781-44EB-840B-EA8AE599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6FAE2-4209-4652-87CE-05C61B13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390-990E-458A-8875-44549AB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6303D-60E5-47A6-B99D-47B98AA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820F5-F1A1-45E1-8774-8C1B72F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1E4F1-43B8-4968-AD8D-8FDCA97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1D933-786A-4166-9C27-2BFCC027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B7EDC-EA01-4FFB-BFB9-F38F29C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C5A91-7639-4BC8-84DD-A48B3BF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AA8C8-F3E3-49BC-901F-0CB1109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40E81-AFD5-471C-AAE7-20EA23DC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2B4CE-36EE-4821-A470-273443E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16576-0695-4E96-A9A7-D08EF426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0BD-5C6C-4E9A-A956-7529D8B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320CB-C43E-48AB-BB4D-EDC77E30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8F214-DBA8-4E18-B89E-B38E6DA9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2CD6A-E70B-46E3-A248-05E7FF8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D8967-9360-45E6-903B-015AFF56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15EE7-672D-4489-88EB-1E08617C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E0E8A-9EC3-4793-97A9-F90B669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47C33-F240-4367-855D-CA049BB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0617A-DA0A-481C-B33A-E2A7CEC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DB991-5758-4A81-AA37-F95CCD9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27CA9-5B4D-459F-B7E4-296AB9A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EDD7-5A0B-4AD3-A93E-51E2827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25D56-4845-4A82-9E8B-CDD985A6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371D8-43DC-4897-B8F2-5157CE46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80A41-CE46-4894-800C-96B97FD7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C7378-D09B-4261-ABB4-9D7F91EC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EA255-313F-4685-AEE7-08DA8B0E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8D4AA-F454-4B2D-9AB7-14693D7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51AE3-3B99-4E7F-8C72-AB3ECC65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A016C-10E0-47CA-87B6-2B2BBFD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A800C-B5BC-4832-83B8-BA9AFFCA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FACED-2A13-4026-9CFA-6114DD9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C12-BD69-4AF3-BFD1-6EBB824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3D3A-9843-40AE-9EA1-4FF1E80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E5A5F-4119-4C7A-A3E2-C2701A1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53300-DBF6-4AE8-9CE8-A2DF9C6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C2501-E347-4468-A92B-34A433D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E9451-68EA-4807-ACAB-94709C22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58669-9A00-4CE6-91AD-B1255200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526E1-B550-4A6E-91C7-D6E5E4F3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5C2EE-14C0-4444-9622-769A827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2A684-7410-46B0-8A92-099979E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BCA6F-7DE2-40A4-8BC1-D7ED1CB4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53347-29ED-49A1-A7EE-12A8FDB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324-9D79-4B51-9735-18ED91E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F8942-75A9-41B1-A6C8-8A94224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334D1-EDD5-45EC-AF98-401E843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CD27B-5339-4227-AAF1-9A4FA80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6EE72-9281-48FF-8F0A-FD56722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02F8A-DC12-4A9D-B6AB-ABF862B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D0C49-ED4C-47E1-AF2F-1491E815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7A6C6-AE75-41AE-B5C2-DAA18722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923E5-6F8E-4E16-A5AA-05FA5273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01A6F-0A18-4FC4-9FE7-43EE2B9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2663B-BEB7-4FC0-8694-9D437D0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755E-AB68-4FCD-B3AC-C66B7A5D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D60899-889D-4CFC-8EE9-EE85CB2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80148-5240-404C-AA55-B1678E5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306F9-E427-469C-9045-25BAD8C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25AAA-3A4C-4F0E-8D33-6ED5AB0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4C8D1-7FE4-4A0E-83B5-0468B34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E36CD-C1D5-4165-BC60-BB44526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4B142-A659-429E-8C0E-03A2DF01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5B29B-0D87-42D4-97DC-663E8C05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13DCF-3F9A-4A74-B6E9-C9F45D05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E2FCA-7A4F-4CBE-9961-7620C464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51FA-D702-46B9-A772-1012EFB7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6DA85-ED38-4BC5-80D0-32F03F4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7BACE-9E1E-469B-B2BC-45F9823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9A8EA-2BD3-450D-BCC4-A38B3FC9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6A2C1-1674-45DC-95B8-5B651C0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51F4B-00F2-4054-A675-DC6D112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D5E08-CA15-4CBD-9879-C4C85FE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77353-D13F-44FD-84B4-9EE210A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D82AD-DB5E-4FBB-83A8-831560E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DD72F-8490-44F1-93A5-28705933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0D23D-42F5-401C-9D36-38210EBD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17D5-60E7-49CB-AC6E-C4F79398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5A73D-29A2-4409-A5D7-9F674319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CFCF9-08A5-4B41-8C9A-2CE79D7F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B87A9-BAE8-486C-99B9-2CB2C186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09AD4-0D55-4808-86DA-36A25363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2099A-B956-4CD7-AC6B-E6E1C84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8F75F-CC36-4664-A286-43EC921D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78031-D71E-410B-B0BB-207450D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01567-55C9-46EB-BA74-7061530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D9159-53BE-4D79-B260-5691C335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4273F-8CEE-4EF3-99AF-3336C7B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52F3-E174-4D05-9F0B-788DEACE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2A870-3035-47A8-89D4-699AF2D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35FFC-2094-4D59-B941-83101DCC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755DC-8EA7-424A-BC89-09A7EA42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1F91-6212-4093-9096-2FEDAD24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71F1-B90B-4E86-AABC-546AA5E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A6D1-541F-4F46-861F-C508F468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C017-CFF0-4831-8B00-FAC6630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A00-6496-49F3-A0FA-FEDAEA5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898C-9CD2-40DE-B1FC-945A936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0BD2-D927-45D2-B986-EB8536D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B57F-CD0D-42AE-983A-AC84E5E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321F-E63E-4854-8889-87547FC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FD2A-1086-4070-A7B0-46F28EF1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8A22-1F25-44A3-BA1D-8C9C125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77CB-4F38-45D0-8B7B-83CC22B2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DB71-53A5-45C0-9155-DDAB85B5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7619-B688-41B6-8699-F81B2FC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859F-D358-449B-AC27-AE4E616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0A5-4F64-4C1E-B504-143C0D2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6442-DFB2-4B33-8E77-7174400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950C-9686-403E-B3BE-655B8E47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955C0-1258-41FA-A723-0D1F8B2E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6B32-9388-4753-A72D-C900AEC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0F49-206C-4658-B723-0C89E63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4F0A-4D6A-441F-84FF-8C9BA94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175A-2611-4BEE-B947-2BBE143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A3FF-F2C8-40F7-84A8-EA8FC78D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B733-2D25-403F-97A4-91FE6DAF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A317-BD0A-4B12-A8FD-F564A24A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450-2169-4909-98AC-40DF4941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083D-107D-4DFD-A4E9-47320DE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C86D-C3C6-412E-B18C-A3EE551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46A5-B080-4E54-A9FD-0C30387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B932-3FAD-4F2C-8680-32A73782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AB9F-3965-4035-91EA-220D13F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864A-8063-4984-8639-DC6A6B7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1E32-8233-4877-98D2-E535B41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FDD7-E480-4ACA-A693-FECF7DA9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7550-0436-4CB6-824F-2A0E735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4A43-4442-4F90-AB1F-3AF245B8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C57-ADC2-471B-A368-F9CD9704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414B-4068-45EE-9FAD-A796CE59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42C3-995B-4E40-AC81-00C1F6A8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89D4-E389-43A9-8A74-0BC104AE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6BB3-D893-44F4-B202-3789B15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87710-F327-419D-B81F-A263B0D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F0753-8010-49B5-A514-4130F8F9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8A246-5480-4E6B-B01B-A97F63C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AEF6-A343-4140-8A8F-CFBFD60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96C06-4D84-47A0-88F9-A291F519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2188-ACCE-46D6-A5C6-A250866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7B4-EA5D-456D-89AF-5D40756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06EF-93CB-4A69-A3E0-0D729C0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BF78-0C48-4A88-A717-FCECF1F3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B035-829D-464A-B76C-273A5D30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19FD-4D1D-4F66-9BD0-E73841BC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1186-95B4-4CA5-B073-6030CBB3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ECAF-33AC-4A28-981F-8087AFFD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8762-00E9-4625-B255-F0DE2A4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81B2-E5F3-4135-A140-C7A9297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3572-9321-4851-A9CC-0382D1C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C799F-A36A-4639-8833-065772BD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B8C-7D8D-460A-9727-344FB97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7C91-BB3A-4950-9157-20670B6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EE3D-B456-4EA1-984F-0BA0E7B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6EAE-530D-4ECF-BB41-5A8A5060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AF94-DEF5-4765-B3CE-454AE05C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1EB5-30A5-432D-8701-D66A01EF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EC22-5932-419A-B082-6F020E7A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3E49-A3DD-4E7C-95B9-F113970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97626-01B8-44CF-B9C6-D7819D7A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852B-B212-4054-84A5-1B740C1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0EE9-8A4C-463A-A437-EEAE272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C1B-DA96-46DD-BEF7-713A81B5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CBBF-EB82-4D75-96D0-6BA7AEC3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71E19-6F5A-4A1D-8942-59BF5B9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4F80-3127-45BC-88BD-EC2B1D4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B3E7-56EB-41E7-8FD7-C7ED2B7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0868-357C-4373-86F5-6317A96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41F0B-96A4-4DD8-A18E-209679C8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9D094-C361-44A2-8412-3503A4B6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9C6BE-2D50-437A-9D47-FE305B5D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E2C57-846A-4CEB-9C55-B1F8247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2B7CA-0546-445C-9B81-E545FCF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4AD-ED87-4147-8157-44D902E6E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18D-F423-491A-B09F-326DD25B96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A57-A0B5-4D3F-8C91-4C423818C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F713-6115-432E-B0E2-9CABE8308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1B7-7F1E-4810-B970-BC8FDE21F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86F-F1EB-45C7-A784-AB1FC8BA1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C3E7-6C3B-4340-A434-063104DB8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ADB-0044-4078-8284-36590E376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4D0-6C17-4882-8C81-CBF1CD1A5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C484-C705-4643-A3A7-C44BF3CB7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C0DB-17DB-42B2-B798-1659971482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AE71-D32D-42F6-99B5-E694EB7DD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2848-542D-477E-83B4-BFA6B35A0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7035-E9CE-4041-93F4-9A1C92849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9BE-73E4-4563-AD59-04B4665227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237-8952-4915-A81C-C51C72D89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CA1-8743-47E4-9639-8A9C756253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4B8-1F0D-42DA-B895-E9D50ADF9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E3FC-6560-47E8-8DFC-FD0D93BB4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A6DC-5F91-4D12-A381-FE76142FD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8E5-5B97-47BC-9793-29FD1D411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AB1F-E2FA-46AB-8178-60F1A7850D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FDF7-6F7F-4E14-8DB3-265BF1726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15B1-A47A-41C3-AB93-4BA060773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228-122C-4693-B379-955F2B35E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1EB-4286-445D-9961-FD1F66AEA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2B0C-4617-4F5C-A929-626592727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FD34-9869-4DF5-BA01-FCFCEF4C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29E-9032-4ABE-BA4D-D23E572A2F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E10-C5DA-4659-811B-2CEE02157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38FC-6124-44F5-9614-7C10EEF81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92CB-1C1E-4B36-B77B-39B961782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9BE-FC27-4659-9CAC-B62E6489EC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2A79-D59B-491B-8305-A5300E1C6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8CA-2778-40C3-A087-919742AA9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125E-F446-44BD-83F8-93DF58D23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D58B-6CBC-4A07-81BF-427741145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F27-4CD2-424C-822A-428248C585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B68-F5B2-466F-86A7-4E6719D74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7AE-4789-4B89-8F8C-FAB4FB52C6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909880" y="2981160"/>
            <a:ext cx="33242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62960" cy="57722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4429080" y="234936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000080" y="275580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1000080" y="3622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3286080" y="36241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071960" y="4060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5357880" y="40514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1214280" y="5338800"/>
            <a:ext cx="1357560" cy="368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6021360" y="5338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1214280" y="5778360"/>
            <a:ext cx="1928880" cy="368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3654360" y="5759280"/>
            <a:ext cx="114300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14280" y="928800"/>
            <a:ext cx="8515440" cy="5572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1000080" y="2225520"/>
            <a:ext cx="4286160" cy="368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1928880" y="2643120"/>
            <a:ext cx="392904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4429080" y="3510000"/>
            <a:ext cx="4357800" cy="368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5"/>
          <a:stretch/>
        </p:blipFill>
        <p:spPr>
          <a:xfrm>
            <a:off x="326880" y="39495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6"/>
          <a:stretch/>
        </p:blipFill>
        <p:spPr>
          <a:xfrm>
            <a:off x="3214800" y="437832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7"/>
          <a:stretch/>
        </p:blipFill>
        <p:spPr>
          <a:xfrm>
            <a:off x="6286680" y="4786200"/>
            <a:ext cx="171432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8"/>
          <a:stretch/>
        </p:blipFill>
        <p:spPr>
          <a:xfrm>
            <a:off x="4786200" y="5226120"/>
            <a:ext cx="200052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9"/>
          <a:stretch/>
        </p:blipFill>
        <p:spPr>
          <a:xfrm>
            <a:off x="4000680" y="5643720"/>
            <a:ext cx="171432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10"/>
          <a:stretch/>
        </p:blipFill>
        <p:spPr>
          <a:xfrm>
            <a:off x="3643200" y="609300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91400" cy="2095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2428920" y="917640"/>
            <a:ext cx="2286000" cy="369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3246480" y="1346040"/>
            <a:ext cx="250020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528480" y="971640"/>
            <a:ext cx="80870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281160" y="1071720"/>
            <a:ext cx="8581680" cy="47145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285840" y="235728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85840" y="2770200"/>
            <a:ext cx="877572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285840" y="3214800"/>
            <a:ext cx="8775720" cy="382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285840" y="364320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8"/>
          <a:stretch/>
        </p:blipFill>
        <p:spPr>
          <a:xfrm>
            <a:off x="285840" y="4046400"/>
            <a:ext cx="8775720" cy="382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9"/>
          <a:stretch/>
        </p:blipFill>
        <p:spPr>
          <a:xfrm>
            <a:off x="285840" y="4484520"/>
            <a:ext cx="8775720" cy="384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10"/>
          <a:stretch/>
        </p:blipFill>
        <p:spPr>
          <a:xfrm>
            <a:off x="285840" y="4913280"/>
            <a:ext cx="8775720" cy="384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11"/>
          <a:stretch/>
        </p:blipFill>
        <p:spPr>
          <a:xfrm>
            <a:off x="285840" y="5332320"/>
            <a:ext cx="87757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8:48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